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316-2D81-402D-B361-9AEE31CFC9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E39-B133-4A26-B4B7-EB5214313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3F9-010E-4C31-9CAA-02E6DCF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0FA-859F-4021-B493-C46EAC3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08A-C9F0-44DD-A906-2D07C76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072-D003-4A2F-92E1-68030EC9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210-2CC5-4C7F-8E82-FE1DC3F9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D18-8D21-4303-AE61-70F596C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2C5-46D0-4225-A174-8BB835C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CF6-E7BE-421E-8268-D0A793E9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60ED-FAD1-43F5-831A-3AEE003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C1D-917B-47CD-A6A5-BCEE446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425-6AEF-4206-9BA3-02E9C93E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40C-A72E-4FB1-8F54-2053803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4DA-6644-430B-9042-FA4697A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C30-5064-427B-A6E2-18C5E11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0376-D456-4D15-BAAD-59C29689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379-B16A-478D-8FC5-D8D3F961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67E6-FE94-4887-A745-C8635FE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E027-2851-4E09-B4BA-B28A3DBE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0742-191F-4C37-883E-3F3EFB3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BB54-B7D2-4B55-A222-D75AFF1D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CAC7-A2F3-4C6E-BEB4-261B9B9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96AF-FC9E-4C02-B8A1-EFA6BA5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975-7CA9-4CF1-9E70-26A691D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234D-0128-4FB8-B384-94AC85B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E7EC-C4B6-4CB2-A0BA-A4A8E1A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2387-A4A7-495B-B49C-BCF489D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7EDD-7333-474F-BEBA-86CECBD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E2AE-9A1D-45BA-8BDC-BD9B92D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F1A6-4628-4359-BE17-8700BB83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DB80-79CB-4C55-87B0-D7F8DBE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89C-50FD-4FCC-8970-9C872800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9CC-ECAF-4713-84C8-A838CC4F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54A-C211-41F4-A376-1C5D3D3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92F-9317-4F36-8807-E2DA108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4F9-6B4F-415F-98D7-6B47C44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CD8-8F74-447F-A34E-A497DE9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AD8-4E9A-4B4F-9654-4040E28AD2B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10D-20DD-4900-8DF4-17317872C36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Исполнитель Ро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61B1-7BF2-45E7-BAC7-0C48642FCB6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EC34-B224-4693-A389-85FD5DE6C5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. Знакомство с исполнителем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86D-CCBA-412B-96A1-0EE9C65E43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8D58-3A71-4D42-827F-C345E8EA7E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4. Вложенные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596-14A2-4ECD-9893-985A3BD62D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7"/>
          <p:cNvSpPr/>
          <p:nvPr/>
        </p:nvSpPr>
        <p:spPr>
          <a:xfrm>
            <a:off x="5234040" y="906480"/>
            <a:ext cx="359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441324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544680" y="1643040"/>
            <a:ext cx="441144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730080" y="2409840"/>
            <a:ext cx="44136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Прямоугольник 13"/>
          <p:cNvSpPr/>
          <p:nvPr/>
        </p:nvSpPr>
        <p:spPr>
          <a:xfrm>
            <a:off x="5592600" y="1992240"/>
            <a:ext cx="24228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ая прямоугольная выноска 14"/>
          <p:cNvSpPr/>
          <p:nvPr/>
        </p:nvSpPr>
        <p:spPr>
          <a:xfrm>
            <a:off x="6222960" y="4940280"/>
            <a:ext cx="2673360" cy="579600"/>
          </a:xfrm>
          <a:prstGeom prst="wedgeRoundRectCallout">
            <a:avLst>
              <a:gd name="adj1" fmla="val -47421"/>
              <a:gd name="adj2" fmla="val -105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5292720" y="5621400"/>
            <a:ext cx="3413160" cy="663480"/>
            <a:chOff x="5292720" y="5621400"/>
            <a:chExt cx="3413160" cy="663480"/>
          </a:xfrm>
        </p:grpSpPr>
        <p:sp>
          <p:nvSpPr>
            <p:cNvPr id="237" name="Text Box 56"/>
            <p:cNvSpPr/>
            <p:nvPr/>
          </p:nvSpPr>
          <p:spPr>
            <a:xfrm>
              <a:off x="5759640" y="5727600"/>
              <a:ext cx="29462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останов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7"/>
            <p:cNvSpPr/>
            <p:nvPr/>
          </p:nvSpPr>
          <p:spPr>
            <a:xfrm>
              <a:off x="5292720" y="562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DB39-CF94-477E-ADD6-71DEAC80F1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340056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Прямоугольник 4"/>
          <p:cNvSpPr/>
          <p:nvPr/>
        </p:nvSpPr>
        <p:spPr>
          <a:xfrm>
            <a:off x="3862440" y="906480"/>
            <a:ext cx="49705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4581360" y="2362320"/>
            <a:ext cx="3443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5"/>
          <p:cNvGrpSpPr/>
          <p:nvPr/>
        </p:nvGrpSpPr>
        <p:grpSpPr>
          <a:xfrm>
            <a:off x="142920" y="4362480"/>
            <a:ext cx="3681000" cy="1663200"/>
            <a:chOff x="142920" y="4362480"/>
            <a:chExt cx="3681000" cy="1663200"/>
          </a:xfrm>
        </p:grpSpPr>
        <p:sp>
          <p:nvSpPr>
            <p:cNvPr id="245" name="Text Box 56"/>
            <p:cNvSpPr/>
            <p:nvPr/>
          </p:nvSpPr>
          <p:spPr>
            <a:xfrm>
              <a:off x="609480" y="4468680"/>
              <a:ext cx="321444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то цикл внутр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ругого цикл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7"/>
            <p:cNvSpPr/>
            <p:nvPr/>
          </p:nvSpPr>
          <p:spPr>
            <a:xfrm>
              <a:off x="142920" y="4362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Полилиния 9"/>
          <p:cNvSpPr/>
          <p:nvPr/>
        </p:nvSpPr>
        <p:spPr>
          <a:xfrm>
            <a:off x="3551400" y="2801880"/>
            <a:ext cx="1371600" cy="167328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10"/>
          <p:cNvSpPr/>
          <p:nvPr/>
        </p:nvSpPr>
        <p:spPr>
          <a:xfrm>
            <a:off x="3822840" y="4454640"/>
            <a:ext cx="826920" cy="59364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A3D-00AA-4F3E-BAA5-B3EFAE3D03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40BF-B0AE-480B-AC58-E22DCDEDA7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5. Циклы с 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B24-513F-4EAC-9D02-FD84A4EFBC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8800" y="903240"/>
            <a:ext cx="3583080" cy="378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5"/>
          <p:cNvGrpSpPr/>
          <p:nvPr/>
        </p:nvGrpSpPr>
        <p:grpSpPr>
          <a:xfrm>
            <a:off x="579600" y="4900680"/>
            <a:ext cx="2955240" cy="1663200"/>
            <a:chOff x="579600" y="4900680"/>
            <a:chExt cx="2955240" cy="1663200"/>
          </a:xfrm>
        </p:grpSpPr>
        <p:sp>
          <p:nvSpPr>
            <p:cNvPr id="259" name="Text Box 56"/>
            <p:cNvSpPr/>
            <p:nvPr/>
          </p:nvSpPr>
          <p:spPr>
            <a:xfrm>
              <a:off x="1046160" y="5006880"/>
              <a:ext cx="248868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ины стенок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7"/>
            <p:cNvSpPr/>
            <p:nvPr/>
          </p:nvSpPr>
          <p:spPr>
            <a:xfrm>
              <a:off x="579600" y="4900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Прямоугольник 7"/>
          <p:cNvSpPr/>
          <p:nvPr/>
        </p:nvSpPr>
        <p:spPr>
          <a:xfrm>
            <a:off x="4095720" y="906480"/>
            <a:ext cx="47847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379440" y="912960"/>
            <a:ext cx="3581280" cy="37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3" name="Скругленная прямоугольная выноска 9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85671"/>
              <a:gd name="adj2" fmla="val 61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761-FD31-4138-BBB3-BBC4DE9851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4095720" y="906480"/>
            <a:ext cx="47847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41200" y="947880"/>
            <a:ext cx="36561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4D3-8532-4F08-8311-562024C5CF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00B-4216-498E-BFEB-2DCAEBA0B0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6.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FD44-EABD-43EE-854F-32A15E240F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 исполнителя Роб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3" descr=""/>
          <p:cNvPicPr/>
          <p:nvPr/>
        </p:nvPicPr>
        <p:blipFill>
          <a:blip r:embed="rId1"/>
          <a:stretch/>
        </p:blipFill>
        <p:spPr>
          <a:xfrm>
            <a:off x="61740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Скругленная прямоугольная выноска 5"/>
          <p:cNvSpPr/>
          <p:nvPr/>
        </p:nvSpPr>
        <p:spPr>
          <a:xfrm>
            <a:off x="3581280" y="1382760"/>
            <a:ext cx="946440" cy="507960"/>
          </a:xfrm>
          <a:prstGeom prst="wedgeRoundRectCallout">
            <a:avLst>
              <a:gd name="adj1" fmla="val -81217"/>
              <a:gd name="adj2" fmla="val 16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ая прямоугольная выноска 6"/>
          <p:cNvSpPr/>
          <p:nvPr/>
        </p:nvSpPr>
        <p:spPr>
          <a:xfrm>
            <a:off x="1100160" y="4167360"/>
            <a:ext cx="1163520" cy="507960"/>
          </a:xfrm>
          <a:prstGeom prst="wedgeRoundRectCallout">
            <a:avLst>
              <a:gd name="adj1" fmla="val 42398"/>
              <a:gd name="adj2" fmla="val -223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ая прямоугольная выноска 7"/>
          <p:cNvSpPr/>
          <p:nvPr/>
        </p:nvSpPr>
        <p:spPr>
          <a:xfrm>
            <a:off x="322200" y="1236600"/>
            <a:ext cx="1149480" cy="507960"/>
          </a:xfrm>
          <a:prstGeom prst="wedgeRoundRectCallout">
            <a:avLst>
              <a:gd name="adj1" fmla="val 82828"/>
              <a:gd name="adj2" fmla="val 215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8"/>
          <p:cNvSpPr/>
          <p:nvPr/>
        </p:nvSpPr>
        <p:spPr>
          <a:xfrm>
            <a:off x="3046320" y="3065400"/>
            <a:ext cx="2193840" cy="1339920"/>
          </a:xfrm>
          <a:prstGeom prst="wedgeRoundRectCallout">
            <a:avLst>
              <a:gd name="adj1" fmla="val -64277"/>
              <a:gd name="adj2" fmla="val -66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клетку надо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6"/>
          <p:cNvSpPr/>
          <p:nvPr/>
        </p:nvSpPr>
        <p:spPr>
          <a:xfrm>
            <a:off x="396720" y="4952880"/>
            <a:ext cx="839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 для Роб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закрасить все отмеченные клетки и придти на Баз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546264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Стрелка вправо 12"/>
          <p:cNvSpPr/>
          <p:nvPr/>
        </p:nvSpPr>
        <p:spPr>
          <a:xfrm>
            <a:off x="4329000" y="2382840"/>
            <a:ext cx="582840" cy="291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0000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7D9-0C8C-442B-A5AB-F77383E083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282760" y="1047600"/>
            <a:ext cx="5060880" cy="26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77" name="Group 55"/>
          <p:cNvGrpSpPr/>
          <p:nvPr/>
        </p:nvGrpSpPr>
        <p:grpSpPr>
          <a:xfrm>
            <a:off x="890640" y="4064040"/>
            <a:ext cx="7727400" cy="663480"/>
            <a:chOff x="890640" y="4064040"/>
            <a:chExt cx="7727400" cy="663480"/>
          </a:xfrm>
        </p:grpSpPr>
        <p:sp>
          <p:nvSpPr>
            <p:cNvPr id="278" name="Text Box 56"/>
            <p:cNvSpPr/>
            <p:nvPr/>
          </p:nvSpPr>
          <p:spPr>
            <a:xfrm>
              <a:off x="1357200" y="4170240"/>
              <a:ext cx="72608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количество проходов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BE73-840D-4BC8-9E20-54015FED02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74680" y="912960"/>
            <a:ext cx="371304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Прямоугольник 4"/>
          <p:cNvSpPr/>
          <p:nvPr/>
        </p:nvSpPr>
        <p:spPr>
          <a:xfrm>
            <a:off x="4129200" y="906480"/>
            <a:ext cx="47847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129200" y="2735280"/>
            <a:ext cx="4784760" cy="3339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74680" y="139860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274680" y="188424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7" name="Прямоугольник 8"/>
          <p:cNvSpPr/>
          <p:nvPr/>
        </p:nvSpPr>
        <p:spPr>
          <a:xfrm>
            <a:off x="144360" y="2941560"/>
            <a:ext cx="3948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9"/>
          <p:cNvSpPr/>
          <p:nvPr/>
        </p:nvSpPr>
        <p:spPr>
          <a:xfrm>
            <a:off x="3992400" y="2801880"/>
            <a:ext cx="930600" cy="25416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ая прямоугольная выноска 10"/>
          <p:cNvSpPr/>
          <p:nvPr/>
        </p:nvSpPr>
        <p:spPr>
          <a:xfrm>
            <a:off x="3595680" y="3724200"/>
            <a:ext cx="1511280" cy="503280"/>
          </a:xfrm>
          <a:prstGeom prst="wedgeRoundRectCallout">
            <a:avLst>
              <a:gd name="adj1" fmla="val 52976"/>
              <a:gd name="adj2" fmla="val -17739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F66-8E97-4747-98FE-40C8392630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30040" y="912960"/>
            <a:ext cx="371340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3" name="Прямоугольник 11"/>
          <p:cNvSpPr/>
          <p:nvPr/>
        </p:nvSpPr>
        <p:spPr>
          <a:xfrm>
            <a:off x="4129200" y="906480"/>
            <a:ext cx="478476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5"/>
          <p:cNvGrpSpPr/>
          <p:nvPr/>
        </p:nvGrpSpPr>
        <p:grpSpPr>
          <a:xfrm>
            <a:off x="635040" y="3316320"/>
            <a:ext cx="2565000" cy="663480"/>
            <a:chOff x="635040" y="3316320"/>
            <a:chExt cx="2565000" cy="663480"/>
          </a:xfrm>
        </p:grpSpPr>
        <p:sp>
          <p:nvSpPr>
            <p:cNvPr id="295" name="Text Box 56"/>
            <p:cNvSpPr/>
            <p:nvPr/>
          </p:nvSpPr>
          <p:spPr>
            <a:xfrm>
              <a:off x="1101600" y="3422520"/>
              <a:ext cx="20984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7"/>
            <p:cNvSpPr/>
            <p:nvPr/>
          </p:nvSpPr>
          <p:spPr>
            <a:xfrm>
              <a:off x="635040" y="33163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5"/>
          <p:cNvSpPr/>
          <p:nvPr/>
        </p:nvSpPr>
        <p:spPr>
          <a:xfrm>
            <a:off x="4772160" y="2820960"/>
            <a:ext cx="3524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0B7-FE85-4759-A05E-D435D17216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01B0-8923-4F3B-9E46-DAA105F560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7.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608-3BC8-4D99-96D3-2D014DF2B6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400040" y="982800"/>
            <a:ext cx="680724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7" name="Group 55"/>
          <p:cNvGrpSpPr/>
          <p:nvPr/>
        </p:nvGrpSpPr>
        <p:grpSpPr>
          <a:xfrm>
            <a:off x="890640" y="4064040"/>
            <a:ext cx="7727400" cy="931680"/>
            <a:chOff x="890640" y="4064040"/>
            <a:chExt cx="7727400" cy="931680"/>
          </a:xfrm>
        </p:grpSpPr>
        <p:sp>
          <p:nvSpPr>
            <p:cNvPr id="308" name="Text Box 56"/>
            <p:cNvSpPr/>
            <p:nvPr/>
          </p:nvSpPr>
          <p:spPr>
            <a:xfrm>
              <a:off x="1357200" y="417024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ход на Базу там, где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ободно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вобод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55"/>
          <p:cNvGrpSpPr/>
          <p:nvPr/>
        </p:nvGrpSpPr>
        <p:grpSpPr>
          <a:xfrm>
            <a:off x="890640" y="5156280"/>
            <a:ext cx="7727400" cy="931680"/>
            <a:chOff x="890640" y="5156280"/>
            <a:chExt cx="7727400" cy="931680"/>
          </a:xfrm>
        </p:grpSpPr>
        <p:sp>
          <p:nvSpPr>
            <p:cNvPr id="311" name="Text Box 56"/>
            <p:cNvSpPr/>
            <p:nvPr/>
          </p:nvSpPr>
          <p:spPr>
            <a:xfrm>
              <a:off x="1357200" y="526248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идти вправо, пок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те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л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тен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890640" y="515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C40-CD59-475D-BF7D-1BA264ACE4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998720" y="949320"/>
            <a:ext cx="5146560" cy="22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6" name="Прямоугольник 4"/>
          <p:cNvSpPr/>
          <p:nvPr/>
        </p:nvSpPr>
        <p:spPr>
          <a:xfrm>
            <a:off x="1035000" y="3281400"/>
            <a:ext cx="707400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5987880" y="3527280"/>
            <a:ext cx="2565720" cy="663480"/>
            <a:chOff x="5987880" y="3527280"/>
            <a:chExt cx="2565720" cy="663480"/>
          </a:xfrm>
        </p:grpSpPr>
        <p:sp>
          <p:nvSpPr>
            <p:cNvPr id="318" name="Text Box 56"/>
            <p:cNvSpPr/>
            <p:nvPr/>
          </p:nvSpPr>
          <p:spPr>
            <a:xfrm>
              <a:off x="6454800" y="3633480"/>
              <a:ext cx="20988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5987880" y="352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88A-B028-4624-9632-8A8879E24A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85920" y="882720"/>
            <a:ext cx="662616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3" name="Прямоугольник 7"/>
          <p:cNvSpPr/>
          <p:nvPr/>
        </p:nvSpPr>
        <p:spPr>
          <a:xfrm>
            <a:off x="2082960" y="3000240"/>
            <a:ext cx="671508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1A1-7F4F-4F92-ACF4-CE324A5C61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3600" y="871560"/>
            <a:ext cx="667692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4"/>
          <p:cNvSpPr/>
          <p:nvPr/>
        </p:nvSpPr>
        <p:spPr>
          <a:xfrm>
            <a:off x="2127240" y="2252520"/>
            <a:ext cx="6715080" cy="411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ABC-C779-4FC3-9C05-6869E133BD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0C0-F172-4F62-AF51-D63EFAD0F7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ман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476280" y="800280"/>
            <a:ext cx="30938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рх   вниз   вправо  вле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ас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74"/>
          <p:cNvSpPr/>
          <p:nvPr/>
        </p:nvSpPr>
        <p:spPr>
          <a:xfrm>
            <a:off x="828720" y="1744560"/>
            <a:ext cx="2265480" cy="42876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ая прямоугольная выноска 75"/>
          <p:cNvSpPr/>
          <p:nvPr/>
        </p:nvSpPr>
        <p:spPr>
          <a:xfrm>
            <a:off x="828720" y="2805120"/>
            <a:ext cx="2265480" cy="48420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3" descr=""/>
          <p:cNvPicPr/>
          <p:nvPr/>
        </p:nvPicPr>
        <p:blipFill>
          <a:blip r:embed="rId1"/>
          <a:stretch/>
        </p:blipFill>
        <p:spPr>
          <a:xfrm>
            <a:off x="482760" y="3346560"/>
            <a:ext cx="2825640" cy="310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Прямоугольник 77"/>
          <p:cNvSpPr/>
          <p:nvPr/>
        </p:nvSpPr>
        <p:spPr>
          <a:xfrm>
            <a:off x="4241880" y="878040"/>
            <a:ext cx="39877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Коман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07C7-1B59-4DF5-8329-1409766094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8. Вспомогатель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7D1-9A9C-4AE3-A082-1A358FFBEC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017880" y="102708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37" name="Group 55"/>
          <p:cNvGrpSpPr/>
          <p:nvPr/>
        </p:nvGrpSpPr>
        <p:grpSpPr>
          <a:xfrm>
            <a:off x="1492200" y="4811760"/>
            <a:ext cx="6693120" cy="931680"/>
            <a:chOff x="1492200" y="4811760"/>
            <a:chExt cx="6693120" cy="931680"/>
          </a:xfrm>
        </p:grpSpPr>
        <p:sp>
          <p:nvSpPr>
            <p:cNvPr id="338" name="Text Box 56"/>
            <p:cNvSpPr/>
            <p:nvPr/>
          </p:nvSpPr>
          <p:spPr>
            <a:xfrm>
              <a:off x="1959120" y="4917960"/>
              <a:ext cx="62262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 использовать сложно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хотя есть одинаковые ря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7"/>
            <p:cNvSpPr/>
            <p:nvPr/>
          </p:nvSpPr>
          <p:spPr>
            <a:xfrm>
              <a:off x="1492200" y="4811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2E4B-3D0D-4E87-9D81-B481AA52F1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0" t="0" r="0" b="61167"/>
          <a:stretch/>
        </p:blipFill>
        <p:spPr>
          <a:xfrm>
            <a:off x="390600" y="880920"/>
            <a:ext cx="3286080" cy="13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90600" y="2816280"/>
            <a:ext cx="32860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Стрелка вниз 8"/>
          <p:cNvSpPr/>
          <p:nvPr/>
        </p:nvSpPr>
        <p:spPr>
          <a:xfrm>
            <a:off x="1922400" y="2332080"/>
            <a:ext cx="223920" cy="37944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4307040" y="998640"/>
            <a:ext cx="348444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4316400" y="4062240"/>
            <a:ext cx="3484440" cy="24400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4581360" y="2413080"/>
            <a:ext cx="2111400" cy="1332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Крест 12"/>
          <p:cNvSpPr/>
          <p:nvPr/>
        </p:nvSpPr>
        <p:spPr>
          <a:xfrm rot="2700000">
            <a:off x="5029200" y="2655360"/>
            <a:ext cx="797040" cy="797040"/>
          </a:xfrm>
          <a:prstGeom prst="plus">
            <a:avLst>
              <a:gd name="adj" fmla="val 432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7011360" y="2757600"/>
            <a:ext cx="6836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14"/>
          <p:cNvSpPr/>
          <p:nvPr/>
        </p:nvSpPr>
        <p:spPr>
          <a:xfrm rot="5400000">
            <a:off x="6688800" y="2783520"/>
            <a:ext cx="222120" cy="379440"/>
          </a:xfrm>
          <a:prstGeom prst="downArrow">
            <a:avLst>
              <a:gd name="adj1" fmla="val 50000"/>
              <a:gd name="adj2" fmla="val 5037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ая прямоугольная выноска 15"/>
          <p:cNvSpPr/>
          <p:nvPr/>
        </p:nvSpPr>
        <p:spPr>
          <a:xfrm>
            <a:off x="1057320" y="4756320"/>
            <a:ext cx="2930400" cy="914400"/>
          </a:xfrm>
          <a:prstGeom prst="wedgeRoundRectCallout">
            <a:avLst>
              <a:gd name="adj1" fmla="val 62601"/>
              <a:gd name="adj2" fmla="val 84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4292640" y="1541520"/>
            <a:ext cx="348444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8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олилиния 7"/>
          <p:cNvSpPr/>
          <p:nvPr/>
        </p:nvSpPr>
        <p:spPr>
          <a:xfrm>
            <a:off x="3160800" y="5156280"/>
            <a:ext cx="1974600" cy="13050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3E3-31E4-4B29-B57B-5D7E9C6321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4578480" y="977760"/>
            <a:ext cx="40590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35040" y="900000"/>
            <a:ext cx="283824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Прямоугольник 5"/>
          <p:cNvSpPr/>
          <p:nvPr/>
        </p:nvSpPr>
        <p:spPr>
          <a:xfrm>
            <a:off x="774720" y="4162320"/>
            <a:ext cx="2833560" cy="201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8"/>
          <p:cNvSpPr/>
          <p:nvPr/>
        </p:nvSpPr>
        <p:spPr>
          <a:xfrm>
            <a:off x="2446200" y="160020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олилиния 9"/>
          <p:cNvSpPr/>
          <p:nvPr/>
        </p:nvSpPr>
        <p:spPr>
          <a:xfrm rot="5400000">
            <a:off x="1937160" y="1580400"/>
            <a:ext cx="360" cy="10080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лилиния 10"/>
          <p:cNvSpPr/>
          <p:nvPr/>
        </p:nvSpPr>
        <p:spPr>
          <a:xfrm>
            <a:off x="2705040" y="209556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11"/>
          <p:cNvSpPr/>
          <p:nvPr/>
        </p:nvSpPr>
        <p:spPr>
          <a:xfrm rot="5400000">
            <a:off x="1818720" y="1697400"/>
            <a:ext cx="360" cy="176508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лилиния 12"/>
          <p:cNvSpPr/>
          <p:nvPr/>
        </p:nvSpPr>
        <p:spPr>
          <a:xfrm>
            <a:off x="2209680" y="259092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олилиния 13"/>
          <p:cNvSpPr/>
          <p:nvPr/>
        </p:nvSpPr>
        <p:spPr>
          <a:xfrm rot="5400000">
            <a:off x="1834560" y="2697480"/>
            <a:ext cx="360" cy="75564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CB9-5E89-44EE-A9EF-37D0F98538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A12-5458-4118-AF68-4DB8A81899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9. Пере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D4B-E4D6-4BBD-91C3-A1F8DDD57B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471760" y="946080"/>
            <a:ext cx="4622760" cy="24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74" name="Group 55"/>
          <p:cNvGrpSpPr/>
          <p:nvPr/>
        </p:nvGrpSpPr>
        <p:grpSpPr>
          <a:xfrm>
            <a:off x="934920" y="3584520"/>
            <a:ext cx="7651800" cy="1479960"/>
            <a:chOff x="934920" y="3584520"/>
            <a:chExt cx="7651800" cy="1479960"/>
          </a:xfrm>
        </p:grpSpPr>
        <p:sp>
          <p:nvSpPr>
            <p:cNvPr id="375" name="Text Box 56"/>
            <p:cNvSpPr/>
            <p:nvPr/>
          </p:nvSpPr>
          <p:spPr>
            <a:xfrm>
              <a:off x="1401840" y="3690720"/>
              <a:ext cx="718488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сстояние до края стены неизвестно,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База расположена с другой стороны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тены на таком же расстояни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7"/>
            <p:cNvSpPr/>
            <p:nvPr/>
          </p:nvSpPr>
          <p:spPr>
            <a:xfrm>
              <a:off x="934920" y="3584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55"/>
          <p:cNvGrpSpPr/>
          <p:nvPr/>
        </p:nvGrpSpPr>
        <p:grpSpPr>
          <a:xfrm>
            <a:off x="2133720" y="5369040"/>
            <a:ext cx="4830120" cy="663480"/>
            <a:chOff x="2133720" y="5369040"/>
            <a:chExt cx="4830120" cy="663480"/>
          </a:xfrm>
        </p:grpSpPr>
        <p:sp>
          <p:nvSpPr>
            <p:cNvPr id="378" name="Text Box 56"/>
            <p:cNvSpPr/>
            <p:nvPr/>
          </p:nvSpPr>
          <p:spPr>
            <a:xfrm>
              <a:off x="2600280" y="5475240"/>
              <a:ext cx="436356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поступит человек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57"/>
            <p:cNvSpPr/>
            <p:nvPr/>
          </p:nvSpPr>
          <p:spPr>
            <a:xfrm>
              <a:off x="213372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данны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582-5411-4582-8641-7F6459A24F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65040" y="8031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325440" y="1228680"/>
            <a:ext cx="8388360" cy="539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38592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113832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8892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26416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339408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0"/>
          <p:cNvSpPr/>
          <p:nvPr/>
        </p:nvSpPr>
        <p:spPr>
          <a:xfrm>
            <a:off x="414504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1"/>
          <p:cNvSpPr/>
          <p:nvPr/>
        </p:nvSpPr>
        <p:spPr>
          <a:xfrm>
            <a:off x="489744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"/>
          <p:cNvSpPr/>
          <p:nvPr/>
        </p:nvSpPr>
        <p:spPr>
          <a:xfrm>
            <a:off x="56484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64008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4"/>
          <p:cNvSpPr/>
          <p:nvPr/>
        </p:nvSpPr>
        <p:spPr>
          <a:xfrm>
            <a:off x="715320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790416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ая прямоугольная выноска 16"/>
          <p:cNvSpPr/>
          <p:nvPr/>
        </p:nvSpPr>
        <p:spPr>
          <a:xfrm>
            <a:off x="4826160" y="425520"/>
            <a:ext cx="2428560" cy="549360"/>
          </a:xfrm>
          <a:prstGeom prst="wedgeRoundRectCallout">
            <a:avLst>
              <a:gd name="adj1" fmla="val -38967"/>
              <a:gd name="adj2" fmla="val 10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чейк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7"/>
          <p:cNvSpPr/>
          <p:nvPr/>
        </p:nvSpPr>
        <p:spPr>
          <a:xfrm>
            <a:off x="4865760" y="1252440"/>
            <a:ext cx="807840" cy="4971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8"/>
          <p:cNvSpPr/>
          <p:nvPr/>
        </p:nvSpPr>
        <p:spPr>
          <a:xfrm>
            <a:off x="2874960" y="1897200"/>
            <a:ext cx="33940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9"/>
          <p:cNvSpPr/>
          <p:nvPr/>
        </p:nvSpPr>
        <p:spPr>
          <a:xfrm>
            <a:off x="4925880" y="1314360"/>
            <a:ext cx="6843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0"/>
          <p:cNvSpPr/>
          <p:nvPr/>
        </p:nvSpPr>
        <p:spPr>
          <a:xfrm>
            <a:off x="4927680" y="1314360"/>
            <a:ext cx="68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2"/>
          <p:cNvSpPr/>
          <p:nvPr/>
        </p:nvSpPr>
        <p:spPr>
          <a:xfrm>
            <a:off x="4927680" y="1322280"/>
            <a:ext cx="6858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23"/>
          <p:cNvSpPr/>
          <p:nvPr/>
        </p:nvSpPr>
        <p:spPr>
          <a:xfrm>
            <a:off x="4540320" y="1765440"/>
            <a:ext cx="798480" cy="1234800"/>
          </a:xfrm>
          <a:prstGeom prst="pie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ая прямоугольная выноска 24"/>
          <p:cNvSpPr/>
          <p:nvPr/>
        </p:nvSpPr>
        <p:spPr>
          <a:xfrm>
            <a:off x="254160" y="2282760"/>
            <a:ext cx="2428560" cy="917640"/>
          </a:xfrm>
          <a:prstGeom prst="wedgeRoundRectCallout">
            <a:avLst>
              <a:gd name="adj1" fmla="val 75574"/>
              <a:gd name="adj2" fmla="val -174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ая прямоугольная выноска 25"/>
          <p:cNvSpPr/>
          <p:nvPr/>
        </p:nvSpPr>
        <p:spPr>
          <a:xfrm>
            <a:off x="5921280" y="2232000"/>
            <a:ext cx="2721240" cy="917640"/>
          </a:xfrm>
          <a:prstGeom prst="wedgeRoundRectCallout">
            <a:avLst>
              <a:gd name="adj1" fmla="val -86541"/>
              <a:gd name="adj2" fmla="val 329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ая прямоугольная выноска 26"/>
          <p:cNvSpPr/>
          <p:nvPr/>
        </p:nvSpPr>
        <p:spPr>
          <a:xfrm>
            <a:off x="5451480" y="3456000"/>
            <a:ext cx="2720880" cy="555480"/>
          </a:xfrm>
          <a:prstGeom prst="wedgeRoundRectCallout">
            <a:avLst>
              <a:gd name="adj1" fmla="val -74638"/>
              <a:gd name="adj2" fmla="val -5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6"/>
          <p:cNvSpPr/>
          <p:nvPr/>
        </p:nvSpPr>
        <p:spPr>
          <a:xfrm>
            <a:off x="396720" y="440532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ерем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ет изменяться во время работы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C501-1D82-440E-A2C0-AFFB25B865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85920" y="846000"/>
            <a:ext cx="4657680" cy="24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385920" y="1158840"/>
            <a:ext cx="46576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0" name="Прямоугольник 4"/>
          <p:cNvSpPr/>
          <p:nvPr/>
        </p:nvSpPr>
        <p:spPr>
          <a:xfrm>
            <a:off x="4522680" y="888840"/>
            <a:ext cx="4308480" cy="4786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Об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N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61A-932A-440C-A9A8-F2BEAF1D72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227-1D00-4657-B582-B7916FAD37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1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, 1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E778-1B86-47C1-BF13-5C2FB0AA1D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0. Алгоритмы с результ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197-4F6C-4199-8E9D-68B297F1A8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99960" y="2063880"/>
            <a:ext cx="3748320" cy="29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0" name="Прямоугольник 76"/>
          <p:cNvSpPr/>
          <p:nvPr/>
        </p:nvSpPr>
        <p:spPr>
          <a:xfrm>
            <a:off x="396720" y="83664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змерить неизвестную длину стенки и вывести результат на экран, используя команду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3602160" y="2490840"/>
            <a:ext cx="51181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Изме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:=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Длина стенки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ая прямоугольная выноска 6"/>
          <p:cNvSpPr/>
          <p:nvPr/>
        </p:nvSpPr>
        <p:spPr>
          <a:xfrm>
            <a:off x="6121440" y="2957400"/>
            <a:ext cx="2867040" cy="917640"/>
          </a:xfrm>
          <a:prstGeom prst="wedgeRoundRectCallout">
            <a:avLst>
              <a:gd name="adj1" fmla="val -37958"/>
              <a:gd name="adj2" fmla="val 7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5"/>
          <p:cNvGrpSpPr/>
          <p:nvPr/>
        </p:nvGrpSpPr>
        <p:grpSpPr>
          <a:xfrm>
            <a:off x="934920" y="5302080"/>
            <a:ext cx="7651800" cy="1053360"/>
            <a:chOff x="934920" y="5302080"/>
            <a:chExt cx="7651800" cy="1053360"/>
          </a:xfrm>
        </p:grpSpPr>
        <p:sp>
          <p:nvSpPr>
            <p:cNvPr id="424" name="Text Box 56"/>
            <p:cNvSpPr/>
            <p:nvPr/>
          </p:nvSpPr>
          <p:spPr>
            <a:xfrm>
              <a:off x="1401840" y="5408280"/>
              <a:ext cx="718488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 возвращае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результат – число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57"/>
            <p:cNvSpPr/>
            <p:nvPr/>
          </p:nvSpPr>
          <p:spPr>
            <a:xfrm>
              <a:off x="934920" y="5302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6DDA-E7BC-4361-A7C4-0C1D6E0197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99960" y="947880"/>
            <a:ext cx="3748320" cy="297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9" name="Прямоугольник 5"/>
          <p:cNvSpPr/>
          <p:nvPr/>
        </p:nvSpPr>
        <p:spPr>
          <a:xfrm>
            <a:off x="3468600" y="874800"/>
            <a:ext cx="51181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 сте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N:=N+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3781080" y="5675400"/>
            <a:ext cx="146088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4109760" y="868320"/>
            <a:ext cx="66096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ая прямоугольная выноска 12"/>
          <p:cNvSpPr/>
          <p:nvPr/>
        </p:nvSpPr>
        <p:spPr>
          <a:xfrm>
            <a:off x="657360" y="949320"/>
            <a:ext cx="2454120" cy="1380960"/>
          </a:xfrm>
          <a:prstGeom prst="wedgeRoundRectCallout">
            <a:avLst>
              <a:gd name="adj1" fmla="val 88861"/>
              <a:gd name="adj2" fmla="val -32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ая прямоугольная выноска 13"/>
          <p:cNvSpPr/>
          <p:nvPr/>
        </p:nvSpPr>
        <p:spPr>
          <a:xfrm>
            <a:off x="668160" y="4351320"/>
            <a:ext cx="2186280" cy="1381320"/>
          </a:xfrm>
          <a:prstGeom prst="wedgeRoundRectCallout">
            <a:avLst>
              <a:gd name="adj1" fmla="val 90393"/>
              <a:gd name="adj2" fmla="val 5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значени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2F1-6188-420A-AAE1-C26777EF7D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EAF-124E-4ED8-89EA-52CF49BC26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1. Циклы с перем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6462-834E-4CE9-8A9A-775D7CC13E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2679840" y="976320"/>
            <a:ext cx="3784320" cy="39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3" name="Прямоугольник 76"/>
          <p:cNvSpPr/>
          <p:nvPr/>
        </p:nvSpPr>
        <p:spPr>
          <a:xfrm>
            <a:off x="396720" y="4995720"/>
            <a:ext cx="612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двойной цик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55"/>
          <p:cNvGrpSpPr/>
          <p:nvPr/>
        </p:nvGrpSpPr>
        <p:grpSpPr>
          <a:xfrm>
            <a:off x="2597040" y="5526000"/>
            <a:ext cx="3949920" cy="663480"/>
            <a:chOff x="2597040" y="5526000"/>
            <a:chExt cx="3949920" cy="663480"/>
          </a:xfrm>
        </p:grpSpPr>
        <p:sp>
          <p:nvSpPr>
            <p:cNvPr id="445" name="Text Box 56"/>
            <p:cNvSpPr/>
            <p:nvPr/>
          </p:nvSpPr>
          <p:spPr>
            <a:xfrm>
              <a:off x="3063960" y="5632200"/>
              <a:ext cx="348300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чем сложнос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57"/>
            <p:cNvSpPr/>
            <p:nvPr/>
          </p:nvSpPr>
          <p:spPr>
            <a:xfrm>
              <a:off x="2597040" y="5526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DB3-9AA9-4427-A239-8FB34215DB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16160" cy="328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349200" y="3179880"/>
            <a:ext cx="3116160" cy="32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1" name="Прямоугольник 5"/>
          <p:cNvSpPr/>
          <p:nvPr/>
        </p:nvSpPr>
        <p:spPr>
          <a:xfrm>
            <a:off x="4092480" y="952560"/>
            <a:ext cx="44053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6"/>
          <p:cNvSpPr/>
          <p:nvPr/>
        </p:nvSpPr>
        <p:spPr>
          <a:xfrm>
            <a:off x="5364000" y="24526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7"/>
          <p:cNvSpPr/>
          <p:nvPr/>
        </p:nvSpPr>
        <p:spPr>
          <a:xfrm>
            <a:off x="5364000" y="42814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ая прямоугольная выноска 8"/>
          <p:cNvSpPr/>
          <p:nvPr/>
        </p:nvSpPr>
        <p:spPr>
          <a:xfrm>
            <a:off x="6467400" y="1519200"/>
            <a:ext cx="2185920" cy="544680"/>
          </a:xfrm>
          <a:prstGeom prst="wedgeRoundRectCallout">
            <a:avLst>
              <a:gd name="adj1" fmla="val -82055"/>
              <a:gd name="adj2" fmla="val 1332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кругленная прямоугольная выноска 9"/>
          <p:cNvSpPr/>
          <p:nvPr/>
        </p:nvSpPr>
        <p:spPr>
          <a:xfrm>
            <a:off x="6467400" y="3625920"/>
            <a:ext cx="21859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55"/>
          <p:cNvGrpSpPr/>
          <p:nvPr/>
        </p:nvGrpSpPr>
        <p:grpSpPr>
          <a:xfrm>
            <a:off x="5675400" y="5291280"/>
            <a:ext cx="3235320" cy="1479960"/>
            <a:chOff x="5675400" y="5291280"/>
            <a:chExt cx="3235320" cy="1479960"/>
          </a:xfrm>
        </p:grpSpPr>
        <p:sp>
          <p:nvSpPr>
            <p:cNvPr id="457" name="Text Box 56"/>
            <p:cNvSpPr/>
            <p:nvPr/>
          </p:nvSpPr>
          <p:spPr>
            <a:xfrm>
              <a:off x="6142320" y="5397480"/>
              <a:ext cx="276840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ужно менять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длину ряд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7"/>
            <p:cNvSpPr/>
            <p:nvPr/>
          </p:nvSpPr>
          <p:spPr>
            <a:xfrm>
              <a:off x="5675400" y="529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51D-07EA-4A6F-9049-746F625961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2" name="Прямоугольник 5"/>
          <p:cNvSpPr/>
          <p:nvPr/>
        </p:nvSpPr>
        <p:spPr>
          <a:xfrm>
            <a:off x="4092480" y="952560"/>
            <a:ext cx="440532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6"/>
          <p:cNvSpPr/>
          <p:nvPr/>
        </p:nvSpPr>
        <p:spPr>
          <a:xfrm>
            <a:off x="5240160" y="26542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7"/>
          <p:cNvSpPr/>
          <p:nvPr/>
        </p:nvSpPr>
        <p:spPr>
          <a:xfrm>
            <a:off x="5240160" y="432576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ая прямоугольная выноска 8"/>
          <p:cNvSpPr/>
          <p:nvPr/>
        </p:nvSpPr>
        <p:spPr>
          <a:xfrm>
            <a:off x="6267600" y="2700360"/>
            <a:ext cx="2184120" cy="544320"/>
          </a:xfrm>
          <a:prstGeom prst="wedgeRoundRectCallout">
            <a:avLst>
              <a:gd name="adj1" fmla="val -81546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ая прямоугольная выноска 9"/>
          <p:cNvSpPr/>
          <p:nvPr/>
        </p:nvSpPr>
        <p:spPr>
          <a:xfrm>
            <a:off x="6267600" y="3714840"/>
            <a:ext cx="21841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349200" y="312264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8" name="Скругленная прямоугольная выноска 14"/>
          <p:cNvSpPr/>
          <p:nvPr/>
        </p:nvSpPr>
        <p:spPr>
          <a:xfrm>
            <a:off x="6556320" y="159696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кругленная прямоугольная выноска 15"/>
          <p:cNvSpPr/>
          <p:nvPr/>
        </p:nvSpPr>
        <p:spPr>
          <a:xfrm>
            <a:off x="6556320" y="523224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504F-76E7-4B46-B335-1796241370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349200" y="976320"/>
            <a:ext cx="3105360" cy="32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3" name="Прямоугольник 5"/>
          <p:cNvSpPr/>
          <p:nvPr/>
        </p:nvSpPr>
        <p:spPr>
          <a:xfrm>
            <a:off x="4092480" y="952560"/>
            <a:ext cx="440532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4432320" y="2286000"/>
            <a:ext cx="31986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5"/>
          <p:cNvGrpSpPr/>
          <p:nvPr/>
        </p:nvGrpSpPr>
        <p:grpSpPr>
          <a:xfrm>
            <a:off x="255600" y="4633920"/>
            <a:ext cx="3235320" cy="1906560"/>
            <a:chOff x="255600" y="4633920"/>
            <a:chExt cx="3235320" cy="1906560"/>
          </a:xfrm>
        </p:grpSpPr>
        <p:sp>
          <p:nvSpPr>
            <p:cNvPr id="476" name="Text Box 56"/>
            <p:cNvSpPr/>
            <p:nvPr/>
          </p:nvSpPr>
          <p:spPr>
            <a:xfrm>
              <a:off x="722520" y="4740120"/>
              <a:ext cx="2768400" cy="18003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я работа с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менной в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одной строке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7"/>
            <p:cNvSpPr/>
            <p:nvPr/>
          </p:nvSpPr>
          <p:spPr>
            <a:xfrm>
              <a:off x="25560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A3C-F67E-4ADB-86D3-E5B74375B9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63600" y="925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4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6"/>
          <p:cNvSpPr/>
          <p:nvPr/>
        </p:nvSpPr>
        <p:spPr>
          <a:xfrm>
            <a:off x="4057560" y="2286000"/>
            <a:ext cx="43718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4E8F-4524-4B55-B09E-31593C16A4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2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D87-97CF-4282-9F2B-3A59950A2C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6A5D-FF3D-46E5-9B62-CA78ADB78D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2. Алгоритмы с парамет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AF5A-C830-4F52-8827-352D23EC9B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1"/>
          <a:stretch/>
        </p:blipFill>
        <p:spPr>
          <a:xfrm>
            <a:off x="2973240" y="981000"/>
            <a:ext cx="328644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2" name="Прямоугольник 76"/>
          <p:cNvSpPr/>
          <p:nvPr/>
        </p:nvSpPr>
        <p:spPr>
          <a:xfrm>
            <a:off x="396720" y="4640400"/>
            <a:ext cx="834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вспомогательный алгоритм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и вызове которого можно указать длину ря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3735000" y="5697360"/>
            <a:ext cx="13694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(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D505-6F63-4D0B-A878-9B1025255B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420840" y="93672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7" name="Прямоугольник 7"/>
          <p:cNvSpPr/>
          <p:nvPr/>
        </p:nvSpPr>
        <p:spPr>
          <a:xfrm>
            <a:off x="4216320" y="2021040"/>
            <a:ext cx="4503960" cy="3080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8"/>
          <p:cNvSpPr/>
          <p:nvPr/>
        </p:nvSpPr>
        <p:spPr>
          <a:xfrm>
            <a:off x="6010200" y="2087640"/>
            <a:ext cx="1895400" cy="5238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9"/>
          <p:cNvSpPr/>
          <p:nvPr/>
        </p:nvSpPr>
        <p:spPr>
          <a:xfrm>
            <a:off x="5271840" y="28656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10"/>
          <p:cNvSpPr/>
          <p:nvPr/>
        </p:nvSpPr>
        <p:spPr>
          <a:xfrm>
            <a:off x="6267600" y="995400"/>
            <a:ext cx="2184120" cy="888840"/>
          </a:xfrm>
          <a:prstGeom prst="wedgeRoundRectCallout">
            <a:avLst>
              <a:gd name="adj1" fmla="val -32569"/>
              <a:gd name="adj2" fmla="val 7133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76"/>
          <p:cNvSpPr/>
          <p:nvPr/>
        </p:nvSpPr>
        <p:spPr>
          <a:xfrm>
            <a:off x="419040" y="5275440"/>
            <a:ext cx="834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раметр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дополнительные данные для работы вспомогательного алгорит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48C-F474-4A0C-B4B1-A8DBF419FB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85920" y="903240"/>
            <a:ext cx="310500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385920" y="3211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7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 парамет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568-7009-4B9D-A1B9-2276C11365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6086-12C7-46E9-BCFD-A54DA4E905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162000" y="2211480"/>
            <a:ext cx="8820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.т.н., учитель информатики высшей категор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У СОШ № 163, г. Санкт-Петербу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BBD-3D83-42B4-90F7-500C91C3A9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5120" y="971640"/>
            <a:ext cx="404820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Прямоугольник 4"/>
          <p:cNvSpPr/>
          <p:nvPr/>
        </p:nvSpPr>
        <p:spPr>
          <a:xfrm>
            <a:off x="4756320" y="979560"/>
            <a:ext cx="39114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лилиния 7"/>
          <p:cNvSpPr/>
          <p:nvPr/>
        </p:nvSpPr>
        <p:spPr>
          <a:xfrm>
            <a:off x="3954600" y="1554120"/>
            <a:ext cx="1166760" cy="452592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1644480" y="1554120"/>
            <a:ext cx="232416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5116680" y="2060640"/>
            <a:ext cx="23256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ая прямоугольная выноска 8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50273"/>
              <a:gd name="adj2" fmla="val 95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7855-288F-4854-A322-3992857A86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595-D68D-4D32-84CC-D4F678D0C9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3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9EA5-3353-4DDA-831C-6E1F12B58F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61800" y="914400"/>
            <a:ext cx="4381560" cy="233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7" name="Прямоугольник 4"/>
          <p:cNvSpPr/>
          <p:nvPr/>
        </p:nvSpPr>
        <p:spPr>
          <a:xfrm>
            <a:off x="4933800" y="855720"/>
            <a:ext cx="391176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лилиния 9"/>
          <p:cNvSpPr/>
          <p:nvPr/>
        </p:nvSpPr>
        <p:spPr>
          <a:xfrm>
            <a:off x="4295880" y="2876400"/>
            <a:ext cx="1374840" cy="298944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1092240" y="3425760"/>
            <a:ext cx="3232080" cy="24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Прямоугольник 7"/>
          <p:cNvSpPr/>
          <p:nvPr/>
        </p:nvSpPr>
        <p:spPr>
          <a:xfrm>
            <a:off x="5600880" y="2868480"/>
            <a:ext cx="222228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илиния 8"/>
          <p:cNvSpPr/>
          <p:nvPr/>
        </p:nvSpPr>
        <p:spPr>
          <a:xfrm>
            <a:off x="1684440" y="3870360"/>
            <a:ext cx="1385640" cy="861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oval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2-02-13T17:40:52Z</dcterms:modified>
  <cp:revision>831</cp:revision>
  <dc:subject/>
  <dc:title>Программное обеспечение (ПО)</dc:title>
</cp:coreProperties>
</file>